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FF3-A73F-4832-B97C-FFB26AE5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C58-BC60-49EC-BEE7-468BFF67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5A5-D41A-4144-BB59-F3CF241A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71D-6F21-453D-A0B3-17AF9F60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FCA-560A-477D-B603-938AC850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03B-2CA9-426D-A833-999FBB20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134-5483-414F-AC65-75635111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595-68F5-487B-A206-FA78A896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9B2-CF08-4C7C-B5BC-FCF03AAE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29D-4BDD-41E2-A545-98F87598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1C4-34FF-49B6-90DB-5EE31584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6F6-C333-42F9-B124-94E5B009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9235-90A1-441D-A582-D7751DC43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56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2044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78552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19080" y="285840"/>
            <a:ext cx="899172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08352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684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0964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10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255600" y="291960"/>
            <a:ext cx="935028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756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53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3:54:24Z</dcterms:created>
  <dc:creator>Megan</dc:creator>
  <dc:description/>
  <dc:language>en-US</dc:language>
  <cp:lastModifiedBy>Megan</cp:lastModifiedBy>
  <dcterms:modified xsi:type="dcterms:W3CDTF">2008-02-25T02:03:05Z</dcterms:modified>
  <cp:revision>14</cp:revision>
  <dc:subject/>
  <dc:title>Slide 1</dc:title>
</cp:coreProperties>
</file>